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1.docx" ContentType="application/vnd.openxmlformats-officedocument.wordprocessingml.documen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wmf" ContentType="image/x-wmf"/>
  <Override PartName="/ppt/media/image6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89598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34E7-4553-4A71-A7F8-12110CE252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A0EBE-5DA8-4D96-B843-D9555E715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C812E-8662-4DBC-82A1-94874F6779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99C72-024A-4CB9-9FF5-F32981E061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BD509-2695-4B47-ACE5-A2469F440C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A6500-1FF6-40D3-B170-6B259C78A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6A9D4-8106-43C8-9F81-F275DD730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1277D-EA20-4FB8-9C85-6CC37EED7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9A3C02-BBCD-4968-99EB-9A3EB4FED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D515B6-227C-4F44-AD1E-1D6BB52CF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854151-492E-4FE4-9262-F6CEB8EB97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F70C-CFC3-4CA8-9AC2-F31C4AF339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61546-0032-4C45-889D-47B4E8A7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0AD00-0702-4310-A117-87B3A4D4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B9635-C1DD-40EF-AC50-F62D7DF6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47D9C-2862-4A2C-8840-CB4F6689CC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84732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474960" y="2044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1219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84732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474960" y="4194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1846F8-DAB2-491E-B13B-30520A23A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6AFA-87B6-4325-9CB4-EBB94B81A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94E44-CFBA-4878-9A8A-2DD100384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A4DBD-3F02-4DF9-A842-31701A225D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219320" y="4186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89BB6-986D-4608-B462-A59D44FBB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A24AF-46F2-4E75-84C6-ADCEF60A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202000" y="4194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BA82C-297D-4404-AF99-13C0FD2A1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21932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202000" y="2044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219320" y="4194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A7498-68B9-4EA5-BCB5-08F1A0797E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219320" y="4186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219320" y="2044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66ff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Impact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Impact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Impac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Impac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225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3ECF0-FC5F-4132-BFCD-DF40DF9161B1}" type="datetime">
              <a:rPr b="1" lang="fr-FR" sz="1400" spc="-1" strike="noStrike">
                <a:solidFill>
                  <a:srgbClr val="000000"/>
                </a:solidFill>
                <a:latin typeface="Arial Narrow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663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272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000000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27C691-FE11-4CCB-B9BA-8C7A32ECC2A9}" type="slidenum">
              <a:rPr b="1" lang="fr-FR" sz="1400" spc="-1" strike="noStrike">
                <a:solidFill>
                  <a:srgbClr val="000000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6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20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eaeaea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eaeae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528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66"/>
                </a:solidFill>
                <a:latin typeface="Impact"/>
              </a:rPr>
              <a:t>Click to edit the title text format</a:t>
            </a:r>
            <a:endParaRPr b="0" lang="en-US" sz="4400" spc="-1" strike="noStrike">
              <a:solidFill>
                <a:srgbClr val="000066"/>
              </a:solidFill>
              <a:latin typeface="Impac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dt" idx="4"/>
          </p:nvPr>
        </p:nvSpPr>
        <p:spPr>
          <a:xfrm>
            <a:off x="1295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F13F6-A712-493E-B38B-7E20CC9F64BD}" type="datetime">
              <a:rPr b="0" lang="fr-FR" sz="1400" spc="-1" strike="noStrike">
                <a:solidFill>
                  <a:srgbClr val="ffffff"/>
                </a:solidFill>
                <a:latin typeface="Arial Narrow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 type="ftr" idx="5"/>
          </p:nvPr>
        </p:nvSpPr>
        <p:spPr>
          <a:xfrm>
            <a:off x="37335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 type="sldNum" idx="6"/>
          </p:nvPr>
        </p:nvSpPr>
        <p:spPr>
          <a:xfrm>
            <a:off x="7162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752AC-0284-47BA-82AE-1C4C0E3E69F4}" type="slidenum">
              <a:rPr b="0" lang="fr-FR" sz="14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" name=""/>
          <p:cNvGrpSpPr/>
          <p:nvPr/>
        </p:nvGrpSpPr>
        <p:grpSpPr>
          <a:xfrm>
            <a:off x="151920" y="313920"/>
            <a:ext cx="848160" cy="6543720"/>
            <a:chOff x="151920" y="313920"/>
            <a:chExt cx="848160" cy="6543720"/>
          </a:xfrm>
        </p:grpSpPr>
        <p:sp>
          <p:nvSpPr>
            <p:cNvPr id="72" name=""/>
            <p:cNvSpPr/>
            <p:nvPr/>
          </p:nvSpPr>
          <p:spPr>
            <a:xfrm flipH="1" rot="5400000">
              <a:off x="129240" y="31658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 rot="5400000">
              <a:off x="129240" y="410868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 flipH="1" rot="5400000">
              <a:off x="126720" y="505008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5400000">
              <a:off x="131400" y="5991480"/>
              <a:ext cx="885960" cy="846360"/>
            </a:xfrm>
            <a:prstGeom prst="parallelogram">
              <a:avLst>
                <a:gd name="adj" fmla="val 55431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 flipH="1" rot="5400000">
              <a:off x="129240" y="33840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H="1" rot="5400000">
              <a:off x="126720" y="1275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flipH="1" rot="5400000">
              <a:off x="126720" y="222120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ccccff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9" name="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69696"/>
              </a:gs>
              <a:gs pos="50000">
                <a:srgbClr val="eaeaea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eaeae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5" name="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6" name="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666699"/>
                </a:gs>
                <a:gs pos="100000">
                  <a:srgbClr val="ccccf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371600" y="2209680"/>
            <a:ext cx="701028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Times New Roman"/>
              </a:rPr>
              <a:t>Renforcement de la gestion des pêches et de la biodivers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971720" y="533520"/>
          <a:ext cx="1119240" cy="677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1720" y="533520"/>
                    <a:ext cx="1119240" cy="677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1371600" y="3581280"/>
            <a:ext cx="710244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66ff"/>
                </a:solidFill>
                <a:latin typeface="Lucida Casual"/>
              </a:rPr>
              <a:t>Un projet de l ’ Union Européen pour les pays de l’Afrique, des Caraïbes et du Pacifique (ACP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4" name=""/>
          <p:cNvGraphicFramePr/>
          <p:nvPr/>
        </p:nvGraphicFramePr>
        <p:xfrm>
          <a:off x="3886200" y="533520"/>
          <a:ext cx="1295280" cy="7365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3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886200" y="533520"/>
                    <a:ext cx="1295280" cy="736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36" name="ICLARM%20Logo" descr=""/>
          <p:cNvPicPr/>
          <p:nvPr/>
        </p:nvPicPr>
        <p:blipFill>
          <a:blip r:embed="rId5"/>
          <a:stretch/>
        </p:blipFill>
        <p:spPr>
          <a:xfrm>
            <a:off x="6019920" y="623880"/>
            <a:ext cx="1600200" cy="5475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A307E-BA24-4894-840D-10A5EE658D5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71600" y="3049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Impact sur la gestion des </a:t>
            </a:r>
            <a:br>
              <a:rPr sz="4000"/>
            </a:b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ressources aquatique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295280" y="2209680"/>
            <a:ext cx="7772400" cy="221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court ter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ormation de 100 collaborateu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ublications des communications scientif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disponibilité des informations à travers de Fish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is en place des réseaux régionaux ACP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1295280" y="4343400"/>
            <a:ext cx="777240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à long terme 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réglementation nationale de la conservation de 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pplication de nouvelles approches de «gouvernance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387D-B55A-4DB7-9A77-1A79668F6BE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706320" y="457200"/>
            <a:ext cx="7634520" cy="104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800" spc="-1" strike="noStrike">
                <a:solidFill>
                  <a:srgbClr val="0066ff"/>
                </a:solidFill>
                <a:latin typeface="Lucida Casual"/>
              </a:rPr>
              <a:t>Merci de votre atten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581280" y="2057400"/>
          <a:ext cx="1828800" cy="15238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81280" y="2057400"/>
                    <a:ext cx="1828800" cy="1523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70127-9DE2-4DBB-8EF6-B922639EEF8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/>
          <p:nvPr/>
        </p:nvSpPr>
        <p:spPr>
          <a:xfrm>
            <a:off x="1523880" y="2362320"/>
            <a:ext cx="71629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2516040" indent="-25160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Durée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4 ans </a:t>
            </a:r>
            <a:br>
              <a:rPr sz="2800"/>
            </a:b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(déc 1996 - nov 2000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6040" indent="-2516040">
              <a:lnSpc>
                <a:spcPct val="120000"/>
              </a:lnSpc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516040" indent="-2516040"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Groupe cible :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Chercheurs halieutiques et gestionnaires de pêches des pays A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558800" y="18108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Renforcement de la gestion des pêches et de la biodiversité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111EC-96F5-4A65-9C63-379C829D7A2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1558800" y="181080"/>
            <a:ext cx="701064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Origine et contexte du pro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08240" y="22860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8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itiative de Recherche Halieutique ACP - 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61880" indent="-461880">
              <a:lnSpc>
                <a:spcPct val="12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311120" y="2743200"/>
            <a:ext cx="77724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12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incipes directeurs de l’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partenariat et coresponsabil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ubsidiar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coopération volontai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308240" y="4495680"/>
            <a:ext cx="778824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8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tivités inspirées par l’Initi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FishBa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Ecopa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A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4CD68-01B6-4F19-9D19-62785416BDA4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1371600" y="3049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Objectif général du pro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905120" y="2743200"/>
            <a:ext cx="628308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Times New Roman"/>
              </a:rPr>
              <a:t>Utilisation durable des ressources aquatiques vivantes dans les pays ACP,  notamment des ressources de poiss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84457-D267-4829-8ACB-80B7D9873E8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1371600" y="209520"/>
            <a:ext cx="7086600" cy="127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Objectifs spécifiques du pro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066680" y="2057400"/>
            <a:ext cx="7848720" cy="37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912960" indent="-45576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enforcement de l'aménagement des  ressources aquatiques et de la capacité scientifique des institutions A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45576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Promotion d’un environnement de recherche qui rend possible la gestion durable des ressources aquatiqu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455760">
              <a:lnSpc>
                <a:spcPct val="10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Achèvement et amélioration des outils pour la gestion des pêches, par exemple FishBa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DEB7-E23E-40C8-AD4C-D2AC735DFA5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2651040" y="592200"/>
            <a:ext cx="5029200" cy="70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Structure du Pro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8" name=""/>
          <p:cNvGraphicFramePr/>
          <p:nvPr/>
        </p:nvGraphicFramePr>
        <p:xfrm>
          <a:off x="1305000" y="2470320"/>
          <a:ext cx="7611840" cy="2850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5000" y="2470320"/>
                    <a:ext cx="7611840" cy="285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597EA-9D98-46DE-B156-2D4C5D8A1A9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50" name=""/>
          <p:cNvGraphicFramePr/>
          <p:nvPr/>
        </p:nvGraphicFramePr>
        <p:xfrm>
          <a:off x="1308240" y="2589120"/>
          <a:ext cx="7543800" cy="3125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08240" y="2589120"/>
                    <a:ext cx="7543800" cy="3125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2" name=""/>
          <p:cNvSpPr/>
          <p:nvPr/>
        </p:nvSpPr>
        <p:spPr>
          <a:xfrm>
            <a:off x="2754360" y="487440"/>
            <a:ext cx="458928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Centres régionaux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6181-0A6E-42CF-978E-BC7421CC406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1735200" y="533520"/>
            <a:ext cx="6645240" cy="8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sp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Points principaux du proje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436760" y="1981080"/>
            <a:ext cx="7707240" cy="390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entres régionaux pour la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ordonnateurs région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équipement informatiqu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apatriement des données sur la biodivers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bases de données nationales sur la biodiversit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cours de form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700"/>
              </a:spcBef>
              <a:buClr>
                <a:srgbClr val="ff0000"/>
              </a:buClr>
              <a:buSzPct val="75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réseau de communication opération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5E890-E8D9-434D-B400-9C0EA1663946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e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"/>
          <p:cNvSpPr/>
          <p:nvPr/>
        </p:nvSpPr>
        <p:spPr>
          <a:xfrm>
            <a:off x="1371600" y="304920"/>
            <a:ext cx="7086600" cy="12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Impact"/>
              </a:rPr>
              <a:t>Résultats attendu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295280" y="220968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8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Développement de la capacité institutionnelle dans les pays AC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ensibilisation concernant les aspects nationaux de la biodiversit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meilleure compréhension des nouvelles approches dans la gestion des pêch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2960" indent="-336600">
              <a:lnSpc>
                <a:spcPct val="90000"/>
              </a:lnSpc>
              <a:buClr>
                <a:srgbClr val="ff0000"/>
              </a:buClr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amélioration de la diffusion des informations scientifiqu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29528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marL="461880" indent="-461880">
              <a:lnSpc>
                <a:spcPct val="80000"/>
              </a:lnSpc>
              <a:buClr>
                <a:srgbClr val="0066ff"/>
              </a:buClr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Etablissement des réseaux nationaux, régionaux et internationau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rojet ACP - U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D1E77-7A13-410D-BD7F-B76CE503FAC0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18T02:19:12Z</dcterms:created>
  <dc:creator>JMV</dc:creator>
  <dc:description/>
  <dc:language>en-US</dc:language>
  <cp:lastModifiedBy>J.M. Vakily</cp:lastModifiedBy>
  <cp:lastPrinted>1998-11-19T00:03:14Z</cp:lastPrinted>
  <dcterms:modified xsi:type="dcterms:W3CDTF">1999-04-10T19:23:22Z</dcterms:modified>
  <cp:revision>24</cp:revision>
  <dc:subject/>
  <dc:title>No Slide Title</dc:title>
</cp:coreProperties>
</file>